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AF6E-572F-4CC8-9CA3-D7FD7B52D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1F49-AC58-4095-86C9-9083201F6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7F8F-CF50-4E69-BC48-A31375CCB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AF43-6CCF-4DFC-AE7E-2CA810AEA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F0E8C-3BDA-4F43-A86A-511F208AF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C101A-2299-4457-9FB2-72DEA1D80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D7270-2163-4E95-9858-D174679DC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AD600-89BE-4555-81DF-38F03DF96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23E35-3F4A-4DEC-9971-EAA148A6F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FD8D5-84E5-442C-811A-B6CBB1343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6D437-70FC-4FC1-8157-F331F8052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FBE3-A429-4ED1-9406-061EC07FC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DA511-25B9-4F34-B51C-0BFBF12B1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5CA0E-E016-4188-B1CD-B88E217D8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AB24F-2A20-43A6-966A-6ED763801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F2DE1-86FF-4E76-A2A0-7E6DA8494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58118-7E9C-453E-A213-FE80C287C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8CF9-EC87-45D1-88EE-C47CA3CB8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CD0C-FEE5-4923-97F1-FAC7712E1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892C-5E20-4CFF-A86D-CCE3FB0CE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D816-D118-4BF8-8EDE-571B54177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21EF-6D02-430D-8BCF-B05AD53DA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8A09-77CD-43A2-8F1C-88372FDFD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21E7-858A-491B-BD69-6F107E316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74F68-B08E-4B6E-BDA4-F296E7AC5C8B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0715B-C5F1-452E-B899-431E6D392955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hapter 5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How ecosystems work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ACOS 2, 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Nitrogen Cycl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rocess by which nitrogen is transferred between the atmosphere, bacteria, and other organism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Nitrogen make up 78% of the gases in our atmospher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Nitrogen-fixing bacteria- the only organisms that can turn atmospheric nitrogen into useable chemical compound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ll other organisms rely on these bacteria for surviva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nd you were scared of bacteria…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OS 2, 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80880" y="277920"/>
            <a:ext cx="8382240" cy="6275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OS 2, 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Phosphorus Cycl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movement of phosphorus from the environment into organisms and back into the environmen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is cycle is slow and does not occur in the atmospher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When rock erode, phosphorus is released into water, plants absorb the phosphoric water, organisms eat phosphoric plants, organisms die and decompose, phosphorous is released to the environmen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OS 2, 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80880" y="277920"/>
            <a:ext cx="8382240" cy="6275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OS 2, 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cid precipit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en we burn fuel, we release nitric oxide into the ai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en nitric oxide meets oxygen and water it forms nitric aci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Nitric acid falls in the form of rain and snow and harms the environmen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OS 2, 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cological Success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Gradual process of change and replacement of species in a communit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rimary Succession- type of change occurring where no ecosystem occurred before the chang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ary Succession- occurs where ecosystem has been interrupted by humans, animals, or natural forc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OS 2, 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econdary Success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ioneer species- first new species to colonize an available and begin ecological successio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max community- final and stable community after successio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OS 2, 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ount St. Helen- 1980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Eruption destroyed 44,460 acr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Flowers and small plants initially inhabited the are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Now trees and shrubs are growing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046840" y="1600200"/>
            <a:ext cx="3240000" cy="21891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5040360" y="3941640"/>
            <a:ext cx="3254400" cy="21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OS 2, 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assroom Activit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Read the Case Study on pgs. 130-131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nswer the two critical thinking questions at the end of the case stud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OS 2, 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Old Field Success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04920" y="1238400"/>
            <a:ext cx="8610480" cy="520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OS 2, 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Life depends on the su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hotosynthesis- process by which sunlight is converted into energy filled molecul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Be sure to know the formula for photosynthesis- pg.117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Energy is transferred from plants to consumers when their leaves are eat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ome plants hold carbohydrates (energy filled sugars) in their leav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OS 2, 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roducers vs. Consumer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Producer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Makes own food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uto-troph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lf-feeder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Bottom of food chain…most of the tim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onsumer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Eat others for energy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Heterotroph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Herbivor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Eat producer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Carnivor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Eat consumer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Omnivor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Eat both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Decomposer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Breaks down dead organism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OS 2, 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Food Web Activity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This is a classroom activity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ACOS 2, 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ellular respir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reaking down food to produce energ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Occurs in the cells of most organism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ell absorbs oxygen and releases energy from foo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 formula is the opposite of photosynthesi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OS 2, 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nergy Transfe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Each time an organisms consumes another, energy is transferre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s energy enters the next trophic level of an energy pyramid, energy is los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re are fewer organisms at the highest trophic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Why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OS 2, 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Carbon Cycl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rocess by which carbon is cycled through the atmosphere, land, water, and organism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762120" y="3124080"/>
            <a:ext cx="7848360" cy="3429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OS 2, 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here is the Carbon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Producers hold it in the form of carbohydrates that are eaten by consumer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onsumers release some carbon through respiration as carbon dioxid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arbonates make up shells and bones of animal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Limestone is made of carbon, it is the largest carbon deposit on earth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ome carbohydrates are stored in fats and oils and other molecules to store energ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he carbon in these molecules can form coal deposits, oils, and natural gas known as fossil fu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ssil fuels are carbon deposits that have been stored for millions of year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OS 2, 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What happens when we use fossil fuels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Extra carbon dioxide is released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ncreased levels of carbon dioxide could lead to global warming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on’t panic…this just means a gradual increase in the Earth’s temperatur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648320" y="1828800"/>
            <a:ext cx="4038480" cy="4495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OS 2, 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9T03:09:28Z</dcterms:created>
  <dc:creator>Adam's Homepage</dc:creator>
  <dc:description/>
  <cp:keywords/>
  <dc:language>en-US</dc:language>
  <cp:lastModifiedBy>Adam's Homepage</cp:lastModifiedBy>
  <dcterms:modified xsi:type="dcterms:W3CDTF">2008-06-29T05:14:38Z</dcterms:modified>
  <cp:revision>3</cp:revision>
  <dc:subject/>
  <dc:title>Chapter 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037611033</vt:lpwstr>
  </property>
</Properties>
</file>